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8659-0410-4376-B15C-BDDAFAE1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D9A9-8523-40C1-97AF-0B5128FA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5AA82-EAD4-4E10-94DF-57FD7F1F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F6545-E679-4A65-9065-1F6CF2BE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DF4001-4F8A-4C21-9E1C-667AD4E3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8201C-4F94-4ED6-9713-8695EE19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948481-BC89-4854-BAB1-3AA1079A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67069-8CFA-4F04-9C52-CCE6A95D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8A4A7-BA19-421E-86AF-60ADEF80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EBD10-2D7F-4885-B2F7-5CE8EF024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3D72E-6CB1-4217-9186-76C751D7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F38D-266F-4E3B-891B-BE99F53D2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0436-E31A-4576-9F8E-DD819579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D46F-DB34-4FAD-9841-CF56BDF3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50EE-DB37-4B12-A39D-9D7ED5AF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0210-9CAA-4374-8325-CB17A88C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497C-265C-433F-AE24-B50B7822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D265-B28F-4DBE-9F96-24BFC961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E92C-6CFF-4381-8C6C-792DF057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2236-159E-4112-A24E-6614CCF2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AE61-D611-460D-BD63-B7643CD8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1D64-2988-4A86-907B-628E4B88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DADB-D9BC-4990-811D-D8547E49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EC03-A69F-472A-966A-A72F0F90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FFC6-165F-4322-B6A4-B049556AD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28FD-1E8D-4A84-BC0C-5BE5EFC3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E910DF-7250-4021-89B7-FB2EA5FA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43F523-37CA-4A0B-A73A-1744F8BFF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CB39DC-B43D-4FEC-9EE7-0C383ED9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96D108-DC92-4D4B-8DDF-E399CBB4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D1D457-20AB-4E68-8FBF-372A935F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3EDE-C897-4B90-BCA2-7AAD87ED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4E914B-60AA-4B21-B70C-CEC1B479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4D815F-160E-4E6F-8258-5F32CD60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7B18F5-DBFD-4817-8073-BBC6E6E2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DE1814-2F17-48F1-A66E-4BA9306E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2898FB-20A7-45F9-AC0A-6ABC46AF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7FD5B6-8470-47C7-8EAD-727FF91A8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5AB866-170B-42DC-AF35-CA7A24FD0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C1661-2A5E-4493-B554-0CF22DB9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38C0F-3FC5-49BF-A415-43669CB7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C6C4F-000F-4607-B954-8223B1EE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6A14-8EEA-405C-A9EA-F61513AE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2873C-12C5-429C-B2C4-84BED112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73EC0-BE45-4C6A-8085-5FF84C1C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FC91C-522E-45B8-AAB8-3F284BEC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1A175-ECCF-426D-8EC0-4C954645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06719-5F8B-4822-8CD1-FB877880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C199A-AB6E-4250-8BD3-0FCD5581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94CAB-1E2F-43FF-AF29-436B39F0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6DCE8-31A9-4D2B-A94E-9FF846F56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2CB97-014C-4C50-8C0D-32945AAC3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6F114-39F4-4DCD-A664-5E5800D6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11CE-28B3-47CB-BD34-F08EB818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04965-A7C4-4101-B3A3-5771BC0D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37F14-3726-49E1-9E70-1C217D16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F3360-71C0-4B6A-AC91-902567C1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BFB87-D50B-46AE-8023-8C82BBAD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7C0A3-7C78-4FC2-A784-CE17948E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7E501-E4CE-4D3A-8136-3EA4A869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716A9-277E-46B8-B10C-A3EFE94C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3EB25-8A89-49AC-8170-97DD5CD2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35AF0-E52C-4CCB-9458-6AE00DE6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72356-3328-4A3A-8E95-D00325EC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57EF-BE57-4B66-A833-BFCB05A5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4FF8F-FF6A-481E-8FC5-A15541B4C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D3140-9971-42FC-B0DB-03542483B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9E19D-0384-4A0E-A23E-CF62C5A5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E7525-7B78-4666-98EF-25EB8489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F9ADF-43CA-40C1-91A2-361120E1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C074B-DD4F-482B-9939-AE6E6FE6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E9E9B-C4CB-4561-930F-D54ED850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7F44F-C38F-4B5C-B2A6-1043FBBC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65DEC-EAD3-4945-935F-FECEC292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95368-36C3-4036-883B-9A9CAC6B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5A61-FFE6-4224-83DD-DEBF97C2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CF6B7-6DF4-4C09-AAB9-31E0812F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7193E-D11F-407D-8243-89F76C562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3F70A-563A-4A01-8A6C-E015F827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8223E-3C2A-460E-B626-207DB2E5A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AC528-6B52-4FF5-95AA-84B15BAA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1B83F-A7BD-4E5A-84B4-B7CA6CB5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FB608-5562-4FB5-BDD7-0AA69CAC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8E694-4AA4-4146-8B89-F0890A71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D5C13-BF74-4050-8ADE-A51B6BE1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E1154-C6AC-4084-917F-2E9F7AEC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2581-4F2A-4B3D-B76A-6AEC37C1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46A93-271E-4151-A39B-E913FE6D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CCD88-B6F1-4D5F-A160-75BF16FD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2948E-0FFA-4667-82A4-0B3565AC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F6E70-77D7-438C-8BA3-3580E292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A8BD7-4693-42EB-9BBD-31B9800FC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54737-CE24-4703-B38C-0893F780A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79064-0455-47E9-8516-9A7F280F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295AD-803D-4C01-B6EC-1406326E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A4358-5BCC-47EE-8457-BD614351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7ADCA-5FF1-4E71-A0A3-58C01FA9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47CF-4A2C-4C57-BDCD-0B5D6784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BB906-3D9E-48FF-A2FC-4CF2DAD5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0A30A-CEAE-4095-9F91-631F58E9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FEC97-0204-435F-AA51-39506596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03884-38DE-43EA-B0F2-E42A35AC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67EF7-7B33-4D70-B4CA-D176D4C5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6DC59-F8D8-4ADA-B387-82433FAAC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0928B-C28C-4E4D-9D45-8DDF77792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BF1A4-DF75-4CCC-BC1F-F55077AC4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869EA-8996-4DE1-B4D3-0CECF9C7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EEB35-C068-49F3-9837-4B7280B7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650B-1187-4BC3-9AFE-89E809CDD3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3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4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6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112C-CA0C-4553-BC9C-8C4E99D2978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2EB3-9F7A-41CF-91A0-A364B27997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3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34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6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8" name="Овал 1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139" name="Овал 1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1" name="Овал 2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644F-F001-41E2-8555-5770B3591DE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Прямоугольник 2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5" name="Овал 3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86" name="Овал 3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8" name="Овал 5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0612-B3ED-4869-A832-DB7C90F458C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5634-070F-40E7-AF01-703CE3DCBAB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Прямоугольник 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22B9-BE21-4EEB-85B1-CAE0794D044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A3CA-4A42-4D7E-9DE3-78C60EC5B9B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Прямоугольник 1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56" name="Прямоугольник 1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8" name="Блок-схема: процесс 2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Блок-схема: процесс 3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177E-2DF5-45C6-AB36-D17DD491054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Picture 13" descr="bc2030-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14"/>
          <p:cNvSpPr/>
          <p:nvPr/>
        </p:nvSpPr>
        <p:spPr>
          <a:xfrm>
            <a:off x="1660680" y="1484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15"/>
          <p:cNvSpPr/>
          <p:nvPr/>
        </p:nvSpPr>
        <p:spPr>
          <a:xfrm>
            <a:off x="457200" y="91440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нергоэффективный дом. Биоисточник энерги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3c3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66cc"/>
                </a:solidFill>
                <a:latin typeface="Corbel"/>
              </a:rPr>
              <a:t>Спасибо за внимание</a:t>
            </a:r>
            <a:endParaRPr b="0" lang="en-US" sz="8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Цели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Помочь людям сэкономить энергию через новый биоисточник.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762120" y="2743200"/>
            <a:ext cx="8153280" cy="3200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Задачи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       Разработать прибор для получения дешевой дополнительной энергии с минимальными затратами. Способствовать очищению экологии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4" descr="b10396710ca6c61a9f440f5e23dd346f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Без чего не может существовать человечество? Что произойдет со всеми нами, когда через 5 млрд. лет не станет Солнца? Гибель всех живых существ – это еще минимум. Слово «свет» мы олицетворяем со словом «жизнь». И, естественно, люди всех времен и народов ищут пути и возможности получения новых источников световой энергии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4" descr="1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А ведь это здорово, что благодаря лишь взаимодействию между органическими веществами, морской водой с участием бактерий в придонном слое морей и океанов образуется так называемое естественное электричество. В новых источниках энергии могут быть использованы явления разложения окисления органических веществ, приводящие к выработке электроэнергии. Известно, что в придонном слое океана образуется электричество, там как бы имеется гигантский топливный элемент. Состав морской воды довольно сложный и включает в себя около 70 химических элементов, которые непрерывно взаимодействуют друг с другом. В результате этого происходят многочисленные реакции окисления, и при взаимодействии с кислородом выделяется энергия, которою можно использовать для получения электрического тока. Происходит превращение химической энергии в электрическую.  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        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Таблица расчетов по          биоисточнику энергии 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(*КОЕ – количество органических единиц)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533520" y="1596960"/>
          <a:ext cx="7619760" cy="4880160"/>
        </p:xfrm>
        <a:graphic>
          <a:graphicData uri="http://schemas.openxmlformats.org/drawingml/2006/table">
            <a:tbl>
              <a:tblPr/>
              <a:tblGrid>
                <a:gridCol w="1523880"/>
                <a:gridCol w="2746440"/>
                <a:gridCol w="1674720"/>
                <a:gridCol w="1674720"/>
              </a:tblGrid>
              <a:tr h="658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ем во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траченные ресур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учаемое напряж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ход на потребител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м</a:t>
                      </a:r>
                      <a:r>
                        <a:rPr b="0" lang="ru-RU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кг водорослей, 3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ОЕ термолерантных колиформные бактерии, 1,5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КОЕ общих колиформные бактерии, объем кислорода – 0,5 м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 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 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7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м</a:t>
                      </a:r>
                      <a:r>
                        <a:rPr b="0" lang="ru-RU" sz="16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кг водорослей, 6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ОЕ термолерантных колиформные бактерии, 3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КОЕ общих колиформные бактерии, объем кислорода – 1 м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4 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м</a:t>
                      </a:r>
                      <a:r>
                        <a:rPr b="0" lang="ru-RU" sz="16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кг водорослей, 9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ОЕ термолерантных колиформные бактерии, 4,5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КОЕ общих колиформные бактерии, объем кислорода – 1,5 м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8 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Заключе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Таким образом, от прибора можно питать минимум подсветку квартиры с применением твердотельных источников света. Особенно это удобно, если есть маленькие дети и необходим ночной уход. Бесспорное преимущество прибора в том, что затраты самые минимальны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бор экологически чист и плюс ко всему еще очищает окружающую среду. И в заключении, я хочу сказать словами Р. Фейнмана «Нам необыкновенно повезло, что мы живем в век, когда еще можно делать открытия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1"/>
          <p:cNvSpPr/>
          <p:nvPr/>
        </p:nvSpPr>
        <p:spPr>
          <a:xfrm>
            <a:off x="1828800" y="600120"/>
            <a:ext cx="579132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ЛИТЕРАТУ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) Дмитриева В.Ф. Физика.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[Текст]: учеб. пособие для школьников/ В.Ф. Дмитриева.- 3-е изд., стер. – М.: Aкадемия, 2007. – 580 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2) Павленко   Ю.Г.    Физика.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[Текст]: учеб. пособие для школьников/ Ю.Г. Павленко. -  4-е изд.,    стереотип. – М.: Академия, 2005. – 566,[1] 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3) Перельман  Я.И.   Занимательная   физика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[Текст]: занимательная литература для школьников/ Я.И. Перельман. -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М.: Дрофа, 1994.-360 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4)  Алексеева М.Н.,  Физика – юным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[Текст]: занимательная литература для школьников/М.Н.Алексеева. -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М.: Просвещение, 1980.-400 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5)   Цифровые образовательные ресурсы. 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                                                                                                </a:t>
            </a:r>
            <a:r>
              <a:rPr b="0" lang="ru-RU" sz="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057040" y="456840"/>
            <a:ext cx="7086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Работу выполнила: 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20" name="Rectangle 3" descr=""/>
          <p:cNvPicPr/>
          <p:nvPr/>
        </p:nvPicPr>
        <p:blipFill>
          <a:blip r:embed="rId1"/>
          <a:stretch/>
        </p:blipFill>
        <p:spPr>
          <a:xfrm>
            <a:off x="-1371600" y="1603440"/>
            <a:ext cx="10223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 Маликова</cp:lastModifiedBy>
  <dcterms:modified xsi:type="dcterms:W3CDTF">2024-05-17T07:59:07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